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7202"/>
        <c:axId val="36865075"/>
      </c:barChart>
      <c:catAx>
        <c:axId val="8427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65075"/>
        <c:crosses val="autoZero"/>
        <c:auto val="1"/>
        <c:lblAlgn val="ctr"/>
        <c:lblOffset val="100"/>
        <c:noMultiLvlLbl val="0"/>
      </c:catAx>
      <c:valAx>
        <c:axId val="36865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7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6107-B75B-4944-A804-24FD3ABD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307-6F62-45D0-978C-EE6A7C79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05E-440B-41F7-8303-A8150E21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45A-9E25-4FB9-8F09-44DA494E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7CE7-98CC-4A6A-9693-E68891B9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54F-0F7D-4357-B54D-39F38E6F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A40-8C25-4203-89E0-925092F2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FF4-A8A3-4FC1-B27D-95ECF48A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C4A6-035A-407D-9453-90A19445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D00-4721-48E8-B41F-562C8ACC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1AF-5C19-4BF3-BAF1-6EDBF58A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06A-4414-4B3E-A6E7-1DD33446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A34B7-3062-42AB-852A-70CF7BB849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