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9232"/>
        <c:axId val="33384125"/>
      </c:barChart>
      <c:catAx>
        <c:axId val="9549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84125"/>
        <c:crosses val="autoZero"/>
        <c:auto val="1"/>
        <c:lblAlgn val="ctr"/>
        <c:lblOffset val="100"/>
        <c:noMultiLvlLbl val="0"/>
      </c:catAx>
      <c:valAx>
        <c:axId val="33384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9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5A8-5E42-4D44-A4CA-CCA12B77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1D2-5D51-4FEE-9274-BFCB4E94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0AA-E6F1-4AF4-AF16-686D07AF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F58-0125-4204-844E-82FDB457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4E3-FF28-4856-B608-C8925A7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FEE-2D9C-4BFC-9174-A4A3F0E8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5CF-777B-4EA9-A89A-DD846E6D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578-5E82-4041-92AD-148BE03D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D82-AB9F-4E88-9515-B18D8239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2C4-7C2B-4DF7-BD32-479A120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6C4-37B2-4445-BA01-7D479F8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135-1072-4CC0-8AD5-9D44EC1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F9E23-B4E6-4D0D-966C-3493094C2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