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32104"/>
        <c:axId val="73575697"/>
      </c:barChart>
      <c:catAx>
        <c:axId val="11132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75697"/>
        <c:crosses val="autoZero"/>
        <c:auto val="1"/>
        <c:lblAlgn val="ctr"/>
        <c:lblOffset val="100"/>
        <c:noMultiLvlLbl val="0"/>
      </c:catAx>
      <c:valAx>
        <c:axId val="73575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32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E0F-A6DD-40C7-A4FF-D5F3706D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87E-6B98-4BC3-A4B6-F028786F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189-79B5-438E-B1E2-F4D4653C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93A-8E82-46E7-B93D-A86EE147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E37-2425-4729-9483-D28FA5E0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BE0-77C7-4114-A641-B8EC82EC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7F34-BE00-4637-8C9A-39A099C6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7A0-FCA2-4D21-AB22-384B47AA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9DE-35E0-44FD-B0D1-BD20F80F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11C-D5BE-47ED-A375-A21BDBA7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118-3844-4856-94F1-67D4F229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B8B-7028-4142-A4ED-A35F3B24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EEF2A-4B4D-4AFE-9F9D-911E6D8E8E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